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D391-2D6B-4970-8611-C7EE1863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5AB3-4D88-4579-91AC-BC38F4DB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03C90-83DE-4F0B-BAE8-16A5DA73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8C769-F76F-4700-A084-5E2FC686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DCAC4-44B4-4618-8B1C-E90B2694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81E81-480D-4912-AEF4-53054B30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77465-D4B6-4FA9-B502-8EC2E0C7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6CF08-5582-4A64-81AF-76EE9E70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DA752-BE77-4CB3-ABA0-C71E1C90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656F4-D518-4486-9500-B38E8CAAF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09E09-A0C4-4595-927A-A13C16D8A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E9259-B2CC-445C-9D46-E8AF1C16D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BF25-E0EA-4B26-BA64-3667A5D02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A4547-1E0F-4CC3-BE29-5515DD9E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98B537-9B0F-4ED9-A7CD-A86FBEAD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7ED84F-F768-4F19-AE0C-D48658E7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9CA103-C5EF-4215-85C9-0F35FC7E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54CB4-9739-4D87-B4B1-693AEB8D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F7ACD-5EDE-4FB4-B573-1EA3CFC8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803D5-0A2B-42AF-BE75-D1E8A77C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C311F-2DEE-4B21-9E20-9FA34DB1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E3151-F565-407C-9D22-8F5FB7E5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2D8C3-AF50-4A16-8D2A-BB0DDE5C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2582-455E-4298-B45B-1973033F9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DEF13-6D88-43CD-A5A8-4FE113A1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B7BD6-E1ED-4801-8DD3-C4589FC3D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29976-AEA4-4048-BDBE-563972F4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55E47-B13D-4563-8665-F3A98E56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98C7F-F816-452B-A3B7-266F22F3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50C08-E731-4B31-86CE-AAEB6E26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363C2-3722-4E85-AC99-53271777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A08CE-77A5-4CC5-9819-BAD961E1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D9A6A-E47C-4FB2-A871-73A3939A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9BB55-4A0E-45AF-9BAE-3427DCB6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5F8F-7E1A-4F0D-BABB-280A7F56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24E09-881F-4772-A904-7D16294E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70429-857E-4E83-B9E3-124F06841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CD142-37F5-44D1-B58D-566FCC232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FDB443-511C-4FA2-AF87-DFE2E61A5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4CAB43-3D92-4A23-BEFB-863C9AE9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2458A3-6BF5-4469-9DEC-90CABF93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D06A9-CE1F-4A3A-B1F1-950B83A4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08E21-4DFF-4844-91F5-5A489057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C88CBB-EFED-4894-87AB-C2ACF08F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8D7FF5-4634-4010-84ED-B6B32097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56BA-1C79-436B-BA58-007FCC33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6B7EFC-FB3B-4844-9E93-BA59F322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DB606-364A-4B7C-9550-DA71DB03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B900F-05AC-48F7-B8B3-9720D761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DAAFCA-9329-42C6-B582-2AC827034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096B7-9789-48EE-BAB8-77752D5CC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4F90D0-B403-4892-BFE1-D600D4DFF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C135C2-3DC5-45E0-9799-637056B9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BBA655-45DC-447A-AF5E-A672DE07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7129E5-6FF1-4363-9BE9-399A19D5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239728-6C76-4A03-A3D5-0E33EF10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7217-01CE-42DC-9FD6-7BC26801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7418EA-7DE1-4FCD-BF72-7FA5C38B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C28A4B-4028-410D-AEA7-FFCCA88B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1741F6-4ED9-40EA-96EE-B7EA03E0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A18558-C6A7-4A41-90DD-F7423B21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6921D9-39F4-4080-93C5-43854EFA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07A68A-41E1-4EA1-B79E-ABC05282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D2DABF-B8BC-4D80-B04A-56ED34EB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663C06-7194-405C-8C80-BF3A6E39A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354835-779B-4DA1-8AF5-739E8B3D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E7464B-3171-4FBC-8033-564CDCB1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02B3-4484-4701-BCAD-8BE02C7B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9AA6AF-1472-4C70-8931-32A27B71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D52DE0-ADBD-4533-97E9-C32E7E53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AFE937-B440-4DBD-A099-91AB3E74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6EC8F6-5108-4AB9-85E9-0F9B899D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814C10-72D8-4D48-87E4-FACB36B5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6531EF-5BEB-432D-8D2C-B7785ED6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7E9175-7407-4237-A11F-291630D7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05B5D3-A091-493E-B832-AC92B273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6B958C-FB48-4B26-B26E-B30FE7D69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1AF30B-0B0B-40B9-8D17-D708E8D22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3BEF-2E00-4076-9A0A-258DD187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299BEE-B066-4875-8CBB-DD4E8FBE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CDAD09-710C-4469-8E7F-E6C47BBC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837510-2B78-410A-8011-2C0AEE0C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7E6564-787B-48AA-A456-4D240B46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EAA422-8905-4F7F-B8AF-B4105F23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8265D6-5EF3-4BAC-A9DC-777D5B26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1FFDE0-7A97-4E6C-893F-700BD655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2ACC1B-40F1-4BC5-A1C3-BD3A7852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34250C-82D3-4603-80D1-E2DA1EB0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25B522-FF32-411B-BA59-92B3A66CA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00FE-B80C-4BB9-80D0-E9A4E653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6AFC91-A325-4391-A608-9E47271A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5350CA-10F6-4A86-BEF9-1674F996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7433CA-7E09-40E6-9D13-B21C816E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AC4D79-8DC1-414A-BB95-768FA406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89FC36-AB4C-44AE-8981-BB412C2B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D9A13A-CCB9-4C2A-B4A1-3144BB35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8152F9-42CE-4073-9EC1-02F8B418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08E539-57F0-4556-A462-7F4B327B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8D7932-430E-4C5D-AE73-CE558B00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08FC9A-ABFC-4B2D-93CB-89F6279C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831B-99FD-4F8F-9335-9D9C730A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F43C7F-C1C0-4AA5-B180-A6A411A7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DFCBA8-D1FE-491E-9E3B-1AB347E2D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382AFC-EF4D-4BD2-9D74-A0D47C269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114F97-4DDB-43FE-AF24-95E46554F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EF2451-4FF0-497D-AEC4-A83434C4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FAA1B3-828A-48ED-A38B-6323B346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A5C854-B9F3-4028-95AA-A9A6B6FB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2FA849-8E33-4737-9D3A-9988063B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7BAFB6-ECE7-496E-A5F7-52049E85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54A045-2BFF-4DB9-9028-70F3C853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14F3-ABAB-45E1-93DA-9C6E1D6F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FFCF-397F-4223-AD43-71342279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EBB559-EE4F-4025-928E-451866A9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627A5C-F902-4B3D-802F-03D1E9A8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753B31-D223-4848-9BB4-74157176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13FFD9-13AF-44CD-9D1C-62099F9D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D27871-1790-44BA-BAB6-D08AB602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BF5F-6413-40AC-B9C0-1D5B1710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2F64-9430-4C13-8974-CC87258A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2713-E484-42B3-8CAF-F64021CA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52B8-4783-46F0-AFE3-06260140A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7223C-39C2-4CAA-9E83-34D63187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BE891-128A-4AC4-8CB0-1685BA39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E3E21-948D-4AE5-A7B6-5EA14CDE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B01A0-4CE5-4C07-8167-A2D2A29E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B2FDB-790D-4E33-8430-F76D111A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E885-780A-4180-8528-2AD24838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BDC93-D008-4637-9FCC-EDE0E194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1ED1D-48AD-4591-8CD4-41AC84C3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2DB9E-B69B-44EB-BAF7-FA27BA21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857CB-2D02-4A39-B98D-31AEF29B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9048C-C11E-49D4-BF04-3D5955AE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6AAC3-FF2E-4405-994A-4A32A775D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84297-C04B-45AE-B142-3BD0E34A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928E1-6D88-4E11-9727-2E3777B8E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E8201-C27C-4818-94D3-E722A63A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4AFC9-26C9-4F31-B0C0-9C6FD7D7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366B-206E-421B-A709-057205E3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29DA3-0050-4743-9416-1EAEAF1E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4933E-6D00-4BD3-ADC2-1297C2AB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3ECA9-06B5-47EB-8478-67799E60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6A456-08A0-4B86-930E-E74049CB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7678B-479F-4858-8DD1-AE5B1B96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62CFC-5A8B-44C2-BEB1-402C1B30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BC0AC-C90A-4F5B-86DD-B6E32D7A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470A1-25A0-482E-B8E6-8418963A9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2C72F-9ACA-4665-A6CD-8FAFEBE3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3904F-2231-40DF-8690-65B7F2945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9EB6-6FFD-4BE9-99A2-72AF4A59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C6284-28A6-417A-A9A2-950CCB1C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CA900-00E6-457B-9A4D-982A4AEF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AB70A-1150-42AF-AB2F-EE2A9E3F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8346A-D37D-4003-B45A-FC549EDE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F42B0-8BD3-464D-9AB8-423135DE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1EBD7-EF25-4703-A230-C0BA85FE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47FE9-A29C-4F9A-9BA1-8620C4CD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84F77-4A2F-41ED-A038-F2E48AD9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A3C64-7468-4426-889F-5EA50C71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E9F87-EECB-43E6-A167-86D4F661E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AB49-E162-4283-932F-86DBE5D0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DD436-F980-4A53-AE4B-369CCB555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A2358-D5D9-4A67-9771-8BFF833E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E1E14-4A71-446D-B54D-E4616666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ACA89-C337-4175-95C7-BDCBA0D9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DA54A-4F30-435A-B465-8F4F5A8D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E311F-E346-4610-A0B3-DFADD7BD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BD75D-D548-4A0D-986D-0B70BC90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064BE-EB6C-49C0-B67E-538CDC91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682D4-B2EE-474F-97BF-8E9B3E51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8D7B4-DB13-44BE-8DFD-642872BF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D2E2-CDE4-49B3-ABFD-E53E0AB5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76BFD-2628-4138-9721-1DFECCAE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59631-9C54-4FE3-976D-40DC9D637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8DBC9-4A85-4152-AE34-7428BC909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B132F-16B2-46B3-96AD-57BDE4AE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8E05B-A106-409A-B997-79384485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0F559-41D3-4EB8-B78B-3F5A87B6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C0473-DE4E-44F4-999B-DA23ABAC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F47A4-89D9-4A74-B4CA-2A442199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FA6D3-D75C-47BA-A1D6-99AD05AB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59D99-6B80-4312-B335-DF0A54CA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98A0-DFBC-495F-9675-3F878AF6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F08B9-A121-4B03-BBDF-42C2815E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4F94D-3B65-46EA-897E-71FA99CD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54F28-6009-4709-B9C4-6E33C56C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E61B4-09FF-461C-ABA8-CDE0CFB15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F5E3A-1540-40C5-B6F1-A8F1337C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3FC93-CFE5-4392-8902-1B6845A3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C280F-5B1B-43DF-A117-3C34BEBF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E73D0-6921-4A89-9EF2-0C570F2B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CDEAF-4977-4871-9B8A-F15CC983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52BD7-CAF1-423E-953B-2388657E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A26F-8E5D-4607-AA76-B07A5A32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9E49B-CDEE-4A66-8409-6B90BE4E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02214-453C-4251-ABF2-39E02077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DFAC5-80BB-4660-AD05-8930CE6D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12060-4812-4D9A-BAC4-D4599B35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B33CE-FF95-49CE-AA38-E2314696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1B52E-0BC8-4654-849D-8DB3D868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A2856-B608-4889-8378-4DBB7BCAF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1BD26-F28B-44FF-A38E-1427809E3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3D009-6FFC-49E4-A27C-A62E4A84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1798F-5A63-422D-9BC7-AC389C47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42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o-RO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o-RO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B27780-2FDD-4626-B2EE-C98528E507BC}" type="slidenum">
              <a:rPr b="0" lang="ro-RO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42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o-RO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o-RO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7F00C0-3BA6-4BA2-8D52-7EE77CF876AA}" type="slidenum">
              <a:rPr b="0" lang="ro-RO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42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o-RO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o-RO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E22E53-9C8D-45BE-B0DB-4C07B21485FA}" type="slidenum">
              <a:rPr b="0" lang="ro-RO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42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4a66ac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4a66ac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o-RO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o-RO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6E129B-8652-4417-8EEA-E86CAE8D1CC1}" type="slidenum">
              <a:rPr b="0" lang="ro-RO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42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o-RO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o-RO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375120-2905-46AB-AA8A-D6FCFED30C24}" type="slidenum">
              <a:rPr b="0" lang="ro-RO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42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4a66ac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4a66ac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o-RO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o-RO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FE3EEB-C178-4AEE-B59D-CACD32F1B99A}" type="slidenum">
              <a:rPr b="0" lang="ro-RO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42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o-RO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o-RO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BDEDB8-74E1-4E49-8FE3-0426FE67C3FA}" type="slidenum">
              <a:rPr b="0" lang="ro-RO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42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o-RO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o-RO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B162AA-AAD8-4783-9D03-96C1D0947BF4}" type="slidenum">
              <a:rPr b="0" lang="ro-RO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42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o-RO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o-RO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987BC9-4521-42F5-A52D-9FBEA50AB6FC}" type="slidenum">
              <a:rPr b="0" lang="ro-RO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42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o-RO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o-RO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A1C399-4223-460A-A97D-25B2DE504972}" type="slidenum">
              <a:rPr b="0" lang="ro-RO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42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o-RO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o-RO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B0D8CC-8A7E-4906-9A38-1579876D5553}" type="slidenum">
              <a:rPr b="0" lang="ro-RO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42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o-RO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o-RO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D6428E-5AC8-4219-8D28-FB43F2E8AEAC}" type="slidenum">
              <a:rPr b="0" lang="ro-RO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42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o-RO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o-RO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932C7A-DDCC-45FF-BE58-F18663FA04FD}" type="slidenum">
              <a:rPr b="0" lang="ro-RO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42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o-RO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o-RO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BB7C8E-87E9-41AA-9506-912383C8CD1F}" type="slidenum">
              <a:rPr b="0" lang="ro-RO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42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o-RO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o-RO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DFA508-674B-462B-860F-F7E8F55DA798}" type="slidenum">
              <a:rPr b="0" lang="ro-RO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42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o-RO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o-RO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0E32C1-F924-4D77-AEE6-88078EE9D3D9}" type="slidenum">
              <a:rPr b="0" lang="ro-RO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42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o-RO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o-RO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BB7386-DFEB-48A7-AC32-4EF619C07130}" type="slidenum">
              <a:rPr b="0" lang="ro-RO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rozalia.doicescu@rocnee.eu" TargetMode="External"/><Relationship Id="rId2" Type="http://schemas.openxmlformats.org/officeDocument/2006/relationships/hyperlink" Target="mailto:office@rocnee.eu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332000" y="2276280"/>
            <a:ext cx="7416720" cy="350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o-RO" sz="4000" spc="-1" strike="noStrike">
                <a:solidFill>
                  <a:srgbClr val="3477b2"/>
                </a:solidFill>
                <a:latin typeface="Arial Black"/>
              </a:rPr>
              <a:t>	</a:t>
            </a:r>
            <a:r>
              <a:rPr b="1" i="1" lang="ro-RO" sz="4000" spc="-1" strike="noStrike">
                <a:solidFill>
                  <a:srgbClr val="3477b2"/>
                </a:solidFill>
                <a:latin typeface="Arial Black"/>
              </a:rPr>
              <a:t>	</a:t>
            </a:r>
            <a:r>
              <a:rPr b="1" i="1" lang="ro-RO" sz="4000" spc="-1" strike="noStrike">
                <a:solidFill>
                  <a:srgbClr val="002060"/>
                </a:solidFill>
                <a:latin typeface="Arial Black"/>
              </a:rPr>
              <a:t>ISTORIE</a:t>
            </a:r>
            <a:r>
              <a:rPr b="1" i="1" lang="en-US" sz="4000" spc="-1" strike="noStrike">
                <a:solidFill>
                  <a:srgbClr val="002060"/>
                </a:solidFill>
                <a:latin typeface="Arial Black"/>
              </a:rPr>
              <a:t>-20</a:t>
            </a:r>
            <a:r>
              <a:rPr b="1" i="1" lang="ro-RO" sz="4000" spc="-1" strike="noStrike">
                <a:solidFill>
                  <a:srgbClr val="002060"/>
                </a:solidFill>
                <a:latin typeface="Arial Black"/>
              </a:rPr>
              <a:t>23</a:t>
            </a: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002060"/>
                </a:solidFill>
                <a:latin typeface="Arial Black"/>
              </a:rPr>
              <a:t>EXAMENUL de BACALAUREAT</a:t>
            </a:r>
            <a:br>
              <a:rPr sz="4000"/>
            </a:br>
            <a:r>
              <a:rPr b="1" i="1" lang="ro-RO" sz="3100" spc="-1" strike="noStrike">
                <a:solidFill>
                  <a:srgbClr val="002060"/>
                </a:solidFill>
                <a:latin typeface="Arial Black"/>
              </a:rPr>
              <a:t>sesiunea iunie-iulie</a:t>
            </a:r>
            <a:br>
              <a:rPr sz="3100"/>
            </a:br>
            <a:endParaRPr b="0" lang="en-US" sz="3100" spc="-1" strike="noStrike">
              <a:solidFill>
                <a:srgbClr val="1581aa"/>
              </a:solidFill>
              <a:latin typeface="Century Gothic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3477b2"/>
                </a:solidFill>
                <a:latin typeface="Arial"/>
              </a:rPr>
              <a:t>PROGRAMA PENTRU EXAMENUL DE BACALAUREAT - 2024</a:t>
            </a:r>
            <a:br>
              <a:rPr sz="2000"/>
            </a:br>
            <a:r>
              <a:rPr b="1" lang="en-US" sz="2000" spc="-1" strike="noStrike">
                <a:solidFill>
                  <a:srgbClr val="3477b2"/>
                </a:solidFill>
                <a:latin typeface="Arial"/>
              </a:rPr>
              <a:t>ISTORIE</a:t>
            </a:r>
            <a:endParaRPr b="0" lang="en-US" sz="20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468360" y="1125360"/>
            <a:ext cx="37432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4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ro-RO" sz="1200" spc="-1" strike="noStrike">
                <a:solidFill>
                  <a:srgbClr val="404040"/>
                </a:solidFill>
                <a:latin typeface="Arial"/>
                <a:ea typeface="Arial"/>
              </a:rPr>
              <a:t>În cadrul examenului de bacalaureat  Istoria are statut de disciplină obligatorie, la proba </a:t>
            </a:r>
            <a:r>
              <a:rPr b="1" lang="en-US" sz="1200" spc="-1" strike="noStrike">
                <a:solidFill>
                  <a:srgbClr val="404040"/>
                </a:solidFill>
                <a:latin typeface="Arial"/>
                <a:ea typeface="Arial"/>
              </a:rPr>
              <a:t>E.c.</a:t>
            </a:r>
            <a:r>
              <a:rPr b="1" lang="ro-RO" sz="1200" spc="-1" strike="noStrike">
                <a:solidFill>
                  <a:srgbClr val="404040"/>
                </a:solidFill>
                <a:latin typeface="Arial"/>
                <a:ea typeface="Arial"/>
              </a:rPr>
              <a:t>, pentru profilul umanist din filiera teoretică sau, după caz, pentru filiera vocaţională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200" spc="-1" strike="noStrike">
                <a:solidFill>
                  <a:srgbClr val="404040"/>
                </a:solidFill>
                <a:latin typeface="Arial"/>
                <a:ea typeface="Arial"/>
              </a:rPr>
              <a:t>Proba de examen la Istorie este o probă scrisă cu durata de 3 ore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4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ro-RO" sz="1200" spc="-1" strike="noStrike">
                <a:solidFill>
                  <a:srgbClr val="404040"/>
                </a:solidFill>
                <a:latin typeface="Arial"/>
                <a:ea typeface="Arial"/>
              </a:rPr>
              <a:t>COMPETENŢE DE EVALUAT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200" spc="-1" strike="noStrike">
                <a:solidFill>
                  <a:srgbClr val="404040"/>
                </a:solidFill>
                <a:latin typeface="Arial"/>
                <a:ea typeface="Arial"/>
              </a:rPr>
              <a:t>Utilizarea eficientă a comunicării şi a limbajului de specialitate 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200" spc="-1" strike="noStrike">
                <a:solidFill>
                  <a:srgbClr val="404040"/>
                </a:solidFill>
                <a:latin typeface="Arial"/>
                <a:ea typeface="Arial"/>
              </a:rPr>
              <a:t>1.1. Formularea de argumente referitoare la un subiect istoric 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200" spc="-1" strike="noStrike">
                <a:solidFill>
                  <a:srgbClr val="404040"/>
                </a:solidFill>
                <a:latin typeface="Arial"/>
                <a:ea typeface="Arial"/>
              </a:rPr>
              <a:t>1.2. Folosirea limbajului adecvat în cadrul unei prezentări scrise 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200" spc="-1" strike="noStrike">
                <a:solidFill>
                  <a:srgbClr val="404040"/>
                </a:solidFill>
                <a:latin typeface="Arial"/>
                <a:ea typeface="Arial"/>
              </a:rPr>
              <a:t>1.3. Evidenţierea relaţiei cauză – efect într-o succesiune de evenimente sau procese istorice 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200" spc="-1" strike="noStrike">
                <a:solidFill>
                  <a:srgbClr val="404040"/>
                </a:solidFill>
                <a:latin typeface="Arial"/>
                <a:ea typeface="Arial"/>
              </a:rPr>
              <a:t>1.4. Formularea, în scris, a unor opinii referitoare la o temă de istorie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3" name="Content Placeholder 3"/>
          <p:cNvSpPr/>
          <p:nvPr/>
        </p:nvSpPr>
        <p:spPr>
          <a:xfrm>
            <a:off x="4643280" y="1195560"/>
            <a:ext cx="403884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Exersarea demersurilor şi acţiunilor civice democratic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2.1. Extragerea informaţiei esenţiale dintr-un mesaj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2.2. Descoperirea constantelor în desfăşurarea fenomenelor istorice studiat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plicarea principiilor şi a metodelor adecvate în abordarea surselor istorice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3.1. Selectarea şi comentarea surselor istorice pentru a susţine/ combate un punct de vedere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3.2. Descoperirea în sursele de informare a perspectivelor multiple asupra evenimentelor şi proceselor istorice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3.3. Analiza diversităţii sociale, culturale şi de civilizaţie în istorie pornind de la sursele istorice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Utilizarea surselor istorice, a metodelor şi a tehnicilor adecvate istoriei pentru rezolvarea de probleme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4.1. Utilizarea adecvată a coordonatelor temporale şi spaţiale relative la un subiect istoric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4.2. Construirea de sinteze tematic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1581aa"/>
                </a:solidFill>
                <a:latin typeface="Arial Black"/>
                <a:ea typeface="Arial"/>
              </a:rPr>
              <a:t>DOMENII DE CONȚINUT / CONȚINUTURI</a:t>
            </a:r>
            <a:endParaRPr b="0" lang="en-US" sz="20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457200" y="134100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Arial"/>
              </a:rPr>
              <a:t>A. </a:t>
            </a: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POPOARE ŞI SPAŢII ISTORICE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>
                <a:solidFill>
                  <a:srgbClr val="404040"/>
                </a:solidFill>
                <a:latin typeface="Arial"/>
                <a:ea typeface="Arial"/>
              </a:rPr>
              <a:t>Romanitatea românilor în viziunea istoricilor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Arial"/>
              </a:rPr>
              <a:t>B. OAMENII, SOCIETATEA ŞI LUMEA IDEILOR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ro-RO" sz="1500" spc="-1" strike="noStrike">
                <a:solidFill>
                  <a:srgbClr val="404040"/>
                </a:solidFill>
                <a:latin typeface="Arial"/>
                <a:ea typeface="Arial"/>
              </a:rPr>
              <a:t>Secolul XX – între democraţie şi totalitarism. Ideologii şi practici politice în România </a:t>
            </a:r>
            <a:r>
              <a:rPr b="1" lang="ro-RO" sz="1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ro-RO" sz="1500" spc="-1" strike="noStrike">
                <a:solidFill>
                  <a:srgbClr val="404040"/>
                </a:solidFill>
                <a:latin typeface="Arial"/>
                <a:ea typeface="Arial"/>
              </a:rPr>
              <a:t>şi în Europa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ro-RO" sz="1500" spc="-1" strike="noStrike">
                <a:solidFill>
                  <a:srgbClr val="404040"/>
                </a:solidFill>
                <a:latin typeface="Arial"/>
                <a:ea typeface="Arial"/>
              </a:rPr>
              <a:t>Constituţiile din România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Arial"/>
              </a:rPr>
              <a:t>C. STATUL ŞI POLITICA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ro-RO" sz="1500" spc="-1" strike="noStrike">
                <a:solidFill>
                  <a:srgbClr val="404040"/>
                </a:solidFill>
                <a:latin typeface="Arial"/>
                <a:ea typeface="Arial"/>
              </a:rPr>
              <a:t>Autonomii locale şi instituţii centrale şi în spaţiul românesc (secolele IX-XVIII)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ro-RO" sz="1500" spc="-1" strike="noStrike">
                <a:solidFill>
                  <a:srgbClr val="404040"/>
                </a:solidFill>
                <a:latin typeface="Arial"/>
                <a:ea typeface="Arial"/>
              </a:rPr>
              <a:t>Statul român modern: de la proiect politic la realizarea României Mari. (secolele </a:t>
            </a:r>
            <a:r>
              <a:rPr b="1" lang="ro-RO" sz="1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ro-RO" sz="1500" spc="-1" strike="noStrike">
                <a:solidFill>
                  <a:srgbClr val="404040"/>
                </a:solidFill>
                <a:latin typeface="Arial"/>
                <a:ea typeface="Arial"/>
              </a:rPr>
              <a:t>XVIII-XX)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ro-RO" sz="1500" spc="-1" strike="noStrike">
                <a:solidFill>
                  <a:srgbClr val="404040"/>
                </a:solidFill>
                <a:latin typeface="Arial"/>
                <a:ea typeface="Arial"/>
              </a:rPr>
              <a:t>România postbelică. Stalinism, naţional-comunism şi disidenţă anticomunistă. </a:t>
            </a:r>
            <a:r>
              <a:rPr b="1" lang="ro-RO" sz="1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ro-RO" sz="1500" spc="-1" strike="noStrike">
                <a:solidFill>
                  <a:srgbClr val="404040"/>
                </a:solidFill>
                <a:latin typeface="Arial"/>
                <a:ea typeface="Arial"/>
              </a:rPr>
              <a:t>Construcţia democraţiei postdecembriste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Arial"/>
              </a:rPr>
              <a:t>D. RELAŢIILE INTERNAŢIONALE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ro-RO" sz="1500" spc="-1" strike="noStrike">
                <a:solidFill>
                  <a:srgbClr val="404040"/>
                </a:solidFill>
                <a:latin typeface="Arial"/>
                <a:ea typeface="Arial"/>
              </a:rPr>
              <a:t>Spaţiul românesc între diplomaţie şi conflict în Evul Mediu şi la începuturile </a:t>
            </a:r>
            <a:r>
              <a:rPr b="1" lang="ro-RO" sz="1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ro-RO" sz="1500" spc="-1" strike="noStrike">
                <a:solidFill>
                  <a:srgbClr val="404040"/>
                </a:solidFill>
                <a:latin typeface="Arial"/>
                <a:ea typeface="Arial"/>
              </a:rPr>
              <a:t>modernităţii.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ro-RO" sz="1500" spc="-1" strike="noStrike">
                <a:solidFill>
                  <a:srgbClr val="404040"/>
                </a:solidFill>
                <a:latin typeface="Arial"/>
                <a:ea typeface="Arial"/>
              </a:rPr>
              <a:t>România şi concertul european; de la „criza orientală” la marile </a:t>
            </a:r>
            <a:r>
              <a:rPr b="1" lang="ro-RO" sz="1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ro-RO" sz="1500" spc="-1" strike="noStrike">
                <a:solidFill>
                  <a:srgbClr val="404040"/>
                </a:solidFill>
                <a:latin typeface="Arial"/>
                <a:ea typeface="Arial"/>
              </a:rPr>
              <a:t>alianţe ale </a:t>
            </a:r>
            <a:r>
              <a:rPr b="1" lang="ro-RO" sz="1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ro-RO" sz="1500" spc="-1" strike="noStrike">
                <a:solidFill>
                  <a:srgbClr val="404040"/>
                </a:solidFill>
                <a:latin typeface="Arial"/>
                <a:ea typeface="Arial"/>
              </a:rPr>
              <a:t>secolului XX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5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1" lang="ro-RO" sz="1500" spc="-1" strike="noStrike">
                <a:solidFill>
                  <a:srgbClr val="404040"/>
                </a:solidFill>
                <a:latin typeface="Arial"/>
                <a:ea typeface="Times New Roman"/>
              </a:rPr>
              <a:t>România în perioada „Războiului rece”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"/>
          <p:cNvSpPr txBox="1"/>
          <p:nvPr/>
        </p:nvSpPr>
        <p:spPr>
          <a:xfrm>
            <a:off x="468000" y="1125360"/>
            <a:ext cx="83516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3477b2"/>
                </a:solidFill>
                <a:latin typeface="Arial Black"/>
              </a:rPr>
              <a:t>MODEL - 1 NOIEMBRIE 2023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3477b2"/>
                </a:solidFill>
                <a:latin typeface="Arial Black"/>
              </a:rPr>
              <a:t>STRUCTURA PROBEI SCRISE LA DISCIPLINA ISTORIE PENTRU EXAMENUL DE BACALAUREAT 2023 ESTE</a:t>
            </a:r>
            <a:r>
              <a:rPr b="0" lang="ro-RO" sz="4400" spc="-1" strike="noStrike">
                <a:solidFill>
                  <a:srgbClr val="3477b2"/>
                </a:solidFill>
                <a:latin typeface="Arial Black"/>
              </a:rPr>
              <a:t> </a:t>
            </a:r>
            <a:r>
              <a:rPr b="0" lang="ro-RO" sz="3200" spc="-1" strike="noStrike">
                <a:solidFill>
                  <a:srgbClr val="3477b2"/>
                </a:solidFill>
                <a:latin typeface="Arial Black"/>
              </a:rPr>
              <a:t>NEMODIFICATĂ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332000" y="980640"/>
            <a:ext cx="741672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o-RO" sz="3600" spc="-1" strike="noStrike">
                <a:solidFill>
                  <a:srgbClr val="3477b2"/>
                </a:solidFill>
                <a:latin typeface="Arial Black"/>
              </a:rPr>
              <a:t>	</a:t>
            </a:r>
            <a:r>
              <a:rPr b="1" i="1" lang="ro-RO" sz="4000" spc="-1" strike="noStrike">
                <a:solidFill>
                  <a:srgbClr val="002060"/>
                </a:solidFill>
                <a:latin typeface="Arial Black"/>
              </a:rPr>
              <a:t>ISTORIE</a:t>
            </a:r>
            <a:r>
              <a:rPr b="1" i="1" lang="en-US" sz="4000" spc="-1" strike="noStrike">
                <a:solidFill>
                  <a:srgbClr val="002060"/>
                </a:solidFill>
                <a:latin typeface="Arial Black"/>
              </a:rPr>
              <a:t>-20</a:t>
            </a:r>
            <a:r>
              <a:rPr b="1" i="1" lang="ro-RO" sz="4000" spc="-1" strike="noStrike">
                <a:solidFill>
                  <a:srgbClr val="002060"/>
                </a:solidFill>
                <a:latin typeface="Arial Black"/>
              </a:rPr>
              <a:t>23</a:t>
            </a:r>
            <a:br>
              <a:rPr sz="1800"/>
            </a:br>
            <a:br>
              <a:rPr sz="1800"/>
            </a:br>
            <a:r>
              <a:rPr b="1" i="1" lang="ro-RO" sz="2200" spc="-1" strike="noStrike">
                <a:solidFill>
                  <a:srgbClr val="0e58c4"/>
                </a:solidFill>
                <a:latin typeface="Arial Black"/>
              </a:rPr>
              <a:t>EXAMEN DE DEFINITIVARE ÎN ÎNVĂȚĂMÂNTUL PREUNIVERSITAR</a:t>
            </a:r>
            <a:br>
              <a:rPr sz="2200"/>
            </a:br>
            <a:br>
              <a:rPr sz="2200"/>
            </a:br>
            <a:r>
              <a:rPr b="1" i="1" lang="ro-RO" sz="2200" spc="-1" strike="noStrike">
                <a:solidFill>
                  <a:srgbClr val="ff6600"/>
                </a:solidFill>
                <a:latin typeface="Arial Black"/>
              </a:rPr>
              <a:t>CONCURSUL NAȚIONAL DE OCUPARE A POSTURILOR DIDACTICE/CATEDRELOR VACANTE/REZERVATE DIN ÎNVĂŢĂMÂNTUL PREUNIVERSITAR</a:t>
            </a:r>
            <a:br>
              <a:rPr sz="2200"/>
            </a:br>
            <a:endParaRPr b="0" lang="en-US" sz="2200" spc="-1" strike="noStrike">
              <a:solidFill>
                <a:srgbClr val="1581aa"/>
              </a:solidFill>
              <a:latin typeface="Century Gothic"/>
            </a:endParaRPr>
          </a:p>
        </p:txBody>
      </p:sp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8" name=""/>
          <p:cNvGraphicFramePr/>
          <p:nvPr/>
        </p:nvGraphicFramePr>
        <p:xfrm>
          <a:off x="539640" y="2182680"/>
          <a:ext cx="8353440" cy="1246320"/>
        </p:xfrm>
        <a:graphic>
          <a:graphicData uri="http://schemas.openxmlformats.org/drawingml/2006/table">
            <a:tbl>
              <a:tblPr/>
              <a:tblGrid>
                <a:gridCol w="857520"/>
                <a:gridCol w="744480"/>
                <a:gridCol w="739800"/>
                <a:gridCol w="858600"/>
                <a:gridCol w="858960"/>
                <a:gridCol w="858960"/>
                <a:gridCol w="858600"/>
                <a:gridCol w="858960"/>
                <a:gridCol w="673200"/>
                <a:gridCol w="1044360"/>
              </a:tblGrid>
              <a:tr h="87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r. can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a66a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ote 2-2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a66a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ote 4,5-4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a66a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ote 5-5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a66a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ote 6-6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a66a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ote 7-7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a66a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ote 8-8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a66a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ote 9-9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a66a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ota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a66a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ontes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a66ac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3"/>
                    </a:solidFill>
                  </a:tcPr>
                </a:tc>
              </a:tr>
            </a:tbl>
          </a:graphicData>
        </a:graphic>
      </p:graphicFrame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115640" y="623520"/>
            <a:ext cx="741852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581aa"/>
                </a:solidFill>
                <a:latin typeface="Arial Black"/>
              </a:rPr>
              <a:t>SITUA</a:t>
            </a:r>
            <a:r>
              <a:rPr b="1" lang="ro-RO" sz="2000" spc="-1" strike="noStrike">
                <a:solidFill>
                  <a:srgbClr val="1581aa"/>
                </a:solidFill>
                <a:latin typeface="Arial Black"/>
              </a:rPr>
              <a:t>ȚIE ÎNREGISTRATĂ LA NIVEL NAȚIONAL</a:t>
            </a:r>
            <a:br>
              <a:rPr sz="2000"/>
            </a:br>
            <a:r>
              <a:rPr b="1" lang="ro-RO" sz="2000" spc="-1" strike="noStrike">
                <a:solidFill>
                  <a:srgbClr val="0e58c4"/>
                </a:solidFill>
                <a:latin typeface="Arial Black"/>
              </a:rPr>
              <a:t>DEFINITIVAT 2023</a:t>
            </a:r>
            <a:br>
              <a:rPr sz="2000"/>
            </a:br>
            <a:r>
              <a:rPr b="1" lang="ro-RO" sz="2000" spc="-1" strike="noStrike">
                <a:solidFill>
                  <a:srgbClr val="ff6600"/>
                </a:solidFill>
                <a:latin typeface="Arial Black"/>
              </a:rPr>
              <a:t>TITULARIZARE 2023</a:t>
            </a:r>
            <a:endParaRPr b="0" lang="en-US" sz="2000" spc="-1" strike="noStrike">
              <a:solidFill>
                <a:srgbClr val="1581aa"/>
              </a:solidFill>
              <a:latin typeface="Century Gothic"/>
            </a:endParaRPr>
          </a:p>
        </p:txBody>
      </p:sp>
      <p:graphicFrame>
        <p:nvGraphicFramePr>
          <p:cNvPr id="1200" name=""/>
          <p:cNvGraphicFramePr/>
          <p:nvPr/>
        </p:nvGraphicFramePr>
        <p:xfrm>
          <a:off x="539640" y="3573360"/>
          <a:ext cx="8353440" cy="1482840"/>
        </p:xfrm>
        <a:graphic>
          <a:graphicData uri="http://schemas.openxmlformats.org/drawingml/2006/table">
            <a:tbl>
              <a:tblPr/>
              <a:tblGrid>
                <a:gridCol w="2063880"/>
                <a:gridCol w="1392120"/>
                <a:gridCol w="1800360"/>
                <a:gridCol w="1728720"/>
                <a:gridCol w="1368360"/>
              </a:tblGrid>
              <a:tr h="842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r. candidaț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u 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o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-4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5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   </a:t>
                      </a: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&gt;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o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9 (11,6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 (29,5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99 (58,8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01" name=""/>
          <p:cNvGraphicFramePr/>
          <p:nvPr/>
        </p:nvGraphicFramePr>
        <p:xfrm>
          <a:off x="539640" y="5300640"/>
          <a:ext cx="8353440" cy="1297080"/>
        </p:xfrm>
        <a:graphic>
          <a:graphicData uri="http://schemas.openxmlformats.org/drawingml/2006/table">
            <a:tbl>
              <a:tblPr/>
              <a:tblGrid>
                <a:gridCol w="936720"/>
                <a:gridCol w="934920"/>
                <a:gridCol w="936720"/>
                <a:gridCol w="863640"/>
                <a:gridCol w="1081080"/>
                <a:gridCol w="1008000"/>
                <a:gridCol w="863640"/>
                <a:gridCol w="936720"/>
                <a:gridCol w="792000"/>
              </a:tblGrid>
              <a:tr h="71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o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-1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-2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o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-3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ote 4-4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o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5-5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o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6-6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ote 7-7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o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8-8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ote 9-9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82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Century Gothic"/>
              </a:rPr>
              <a:t>Date de contact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Century Gothic"/>
              </a:rPr>
              <a:t>Rozalia Doicescu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Century Gothic"/>
              </a:rPr>
              <a:t>Consilier Serviciul Evaluări, Examene și Concursuri Naționale- CNPE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 u="sng">
                <a:solidFill>
                  <a:srgbClr val="9454c3"/>
                </a:solidFill>
                <a:uFillTx/>
                <a:latin typeface="Century Gothic"/>
                <a:hlinkClick r:id="rId1"/>
              </a:rPr>
              <a:t>rozalia.doicescu@rocnee.eu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 u="sng">
                <a:solidFill>
                  <a:srgbClr val="9454c3"/>
                </a:solidFill>
                <a:uFillTx/>
                <a:latin typeface="Century Gothic"/>
                <a:hlinkClick r:id="rId2"/>
              </a:rPr>
              <a:t>office@rocnee.eu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1547640" y="623880"/>
            <a:ext cx="6986880" cy="8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581aa"/>
                </a:solidFill>
                <a:latin typeface="Arial Black"/>
              </a:rPr>
              <a:t>SITUA</a:t>
            </a:r>
            <a:r>
              <a:rPr b="1" lang="ro-RO" sz="2000" spc="-1" strike="noStrike">
                <a:solidFill>
                  <a:srgbClr val="1581aa"/>
                </a:solidFill>
                <a:latin typeface="Arial Black"/>
              </a:rPr>
              <a:t>ȚIE ÎNREGISTRATĂ LA NIVEL NAȚIONAL</a:t>
            </a:r>
            <a:br>
              <a:rPr sz="2000"/>
            </a:br>
            <a:r>
              <a:rPr b="1" lang="ro-RO" sz="2000" spc="-1" strike="noStrike">
                <a:solidFill>
                  <a:srgbClr val="1581aa"/>
                </a:solidFill>
                <a:latin typeface="Arial Black"/>
              </a:rPr>
              <a:t>BACALAUREAT 2023</a:t>
            </a:r>
            <a:endParaRPr b="0" lang="en-US" sz="2000" spc="-1" strike="noStrike">
              <a:solidFill>
                <a:srgbClr val="1581aa"/>
              </a:solidFill>
              <a:latin typeface="Century Gothic"/>
            </a:endParaRPr>
          </a:p>
        </p:txBody>
      </p:sp>
      <p:graphicFrame>
        <p:nvGraphicFramePr>
          <p:cNvPr id="1178" name=""/>
          <p:cNvGraphicFramePr/>
          <p:nvPr/>
        </p:nvGraphicFramePr>
        <p:xfrm>
          <a:off x="539640" y="1844640"/>
          <a:ext cx="7993080" cy="3363840"/>
        </p:xfrm>
        <a:graphic>
          <a:graphicData uri="http://schemas.openxmlformats.org/drawingml/2006/table">
            <a:tbl>
              <a:tblPr/>
              <a:tblGrid>
                <a:gridCol w="2808360"/>
                <a:gridCol w="2376360"/>
                <a:gridCol w="2808360"/>
              </a:tblGrid>
              <a:tr h="1871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andidaţi prezenț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0c0"/>
                        </a:gs>
                        <a:gs pos="100000">
                          <a:srgbClr val="c8d1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andidaţi </a:t>
                      </a: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u note din tranșa 5-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0c0"/>
                        </a:gs>
                        <a:gs pos="100000">
                          <a:srgbClr val="c8d1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ROCENT DE PROMOV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0c0"/>
                        </a:gs>
                        <a:gs pos="100000">
                          <a:srgbClr val="c8d1e7"/>
                        </a:gs>
                      </a:gsLst>
                      <a:lin ang="5400000"/>
                    </a:gradFill>
                  </a:tcPr>
                </a:tc>
              </a:tr>
              <a:tr h="1492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51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c8d1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2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c8d1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1,9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c8d1e7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1402920" y="623520"/>
            <a:ext cx="71312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581aa"/>
                </a:solidFill>
                <a:latin typeface="Arial Black"/>
              </a:rPr>
              <a:t>SITUA</a:t>
            </a:r>
            <a:r>
              <a:rPr b="1" lang="ro-RO" sz="2000" spc="-1" strike="noStrike">
                <a:solidFill>
                  <a:srgbClr val="1581aa"/>
                </a:solidFill>
                <a:latin typeface="Arial Black"/>
              </a:rPr>
              <a:t>ȚIE ÎNREGISTRATĂ LA NIVEL NAȚIONAL</a:t>
            </a:r>
            <a:br>
              <a:rPr sz="2000"/>
            </a:br>
            <a:r>
              <a:rPr b="1" lang="ro-RO" sz="2000" spc="-1" strike="noStrike">
                <a:solidFill>
                  <a:srgbClr val="1581aa"/>
                </a:solidFill>
                <a:latin typeface="Arial Black"/>
              </a:rPr>
              <a:t>BACALAUREAT 2023</a:t>
            </a:r>
            <a:endParaRPr b="0" lang="en-US" sz="20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1403280" y="2133720"/>
            <a:ext cx="65930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404040"/>
                </a:solidFill>
                <a:latin typeface="Arial Black"/>
              </a:rPr>
              <a:t>NOTA 10 – 2569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404040"/>
                </a:solidFill>
                <a:latin typeface="Arial Black"/>
              </a:rPr>
              <a:t>NOTE SUB 5 – 3486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087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1581aa"/>
                </a:solidFill>
                <a:latin typeface="Arial Black"/>
                <a:ea typeface="Arial"/>
              </a:rPr>
              <a:t>SITUAȚIE ÎNREGISTRATĂ LA NIVEL NAȚIONAL  BACALAUREAT 2023</a:t>
            </a:r>
            <a:br>
              <a:rPr sz="2000"/>
            </a:br>
            <a:r>
              <a:rPr b="0" lang="ro-RO" sz="2000" spc="-1" strike="noStrike">
                <a:solidFill>
                  <a:srgbClr val="1581aa"/>
                </a:solidFill>
                <a:latin typeface="Arial Black"/>
              </a:rPr>
              <a:t>DISTRIBUȚIA NOTELOR (tranșe de note)</a:t>
            </a:r>
            <a:endParaRPr b="0" lang="en-US" sz="2000" spc="-1" strike="noStrike">
              <a:solidFill>
                <a:srgbClr val="1581aa"/>
              </a:solidFill>
              <a:latin typeface="Century Gothic"/>
            </a:endParaRPr>
          </a:p>
        </p:txBody>
      </p:sp>
      <p:graphicFrame>
        <p:nvGraphicFramePr>
          <p:cNvPr id="1182" name="Diagramă 1"/>
          <p:cNvGraphicFramePr/>
          <p:nvPr/>
        </p:nvGraphicFramePr>
        <p:xfrm>
          <a:off x="633240" y="1577880"/>
          <a:ext cx="805032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3" name="Diagramă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240" y="1577880"/>
                    <a:ext cx="805032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1581aa"/>
                </a:solidFill>
                <a:latin typeface="Arial Black"/>
              </a:rPr>
              <a:t>CONTESTAȚII</a:t>
            </a:r>
            <a:endParaRPr b="0" lang="en-US" sz="20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1186920" y="1196640"/>
            <a:ext cx="7347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Arial Black"/>
              </a:rPr>
              <a:t>5593 CONTESTAȚII ADMISE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Arial Black"/>
              </a:rPr>
              <a:t>3,25 DEVINE 5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Arial Black"/>
              </a:rPr>
              <a:t>4,05 DEVINE 6,2 SAU 8,1 DEVINE 6,3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Arial Black"/>
              </a:rPr>
              <a:t>4,5 DEVINE 7,05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Arial Black"/>
              </a:rPr>
              <a:t>6,5 DEVINE 8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Arial Black"/>
              </a:rPr>
              <a:t>7,2 DEVINE 9,25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404040"/>
                </a:solidFill>
                <a:latin typeface="Arial Black"/>
              </a:rPr>
              <a:t>NERESPECTAREA BAREMULUI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Examenul național de bacalaureat 2023</a:t>
            </a:r>
            <a:br>
              <a:rPr sz="1800"/>
            </a:br>
            <a:r>
              <a:rPr b="1" lang="ro-RO" sz="1800" spc="-1" strike="noStrike">
                <a:solidFill>
                  <a:srgbClr val="1581aa"/>
                </a:solidFill>
                <a:latin typeface="Arial Black"/>
                <a:ea typeface="바탕"/>
              </a:rPr>
              <a:t> Istorie</a:t>
            </a:r>
            <a:br>
              <a:rPr sz="1800"/>
            </a:br>
            <a:r>
              <a:rPr b="1" lang="ro-RO" sz="1800" spc="-1" strike="noStrike">
                <a:solidFill>
                  <a:srgbClr val="1581aa"/>
                </a:solidFill>
                <a:latin typeface="Arial Black"/>
                <a:ea typeface="바탕"/>
              </a:rPr>
              <a:t>BAREM DE EVALUARE ŞI DE NOTARE</a:t>
            </a:r>
            <a:br>
              <a:rPr sz="1800"/>
            </a:br>
            <a:endParaRPr b="0" lang="en-US" sz="18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1115640" y="2133720"/>
            <a:ext cx="7418520" cy="41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800" spc="-1" strike="noStrike">
                <a:solidFill>
                  <a:srgbClr val="404040"/>
                </a:solidFill>
                <a:latin typeface="Arial"/>
                <a:ea typeface="바탕"/>
              </a:rPr>
              <a:t>Se punctează orice modalitate de rezolvare corectă a cerinţelor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800" spc="-1" strike="noStrike" u="sng">
                <a:solidFill>
                  <a:srgbClr val="404040"/>
                </a:solidFill>
                <a:uFillTx/>
                <a:latin typeface="Arial"/>
                <a:ea typeface="바탕"/>
              </a:rPr>
              <a:t>SUBIECTUL I</a:t>
            </a:r>
            <a:r>
              <a:rPr b="1" lang="ro-RO" sz="1800" spc="-1" strike="noStrike" u="sng">
                <a:solidFill>
                  <a:srgbClr val="404040"/>
                </a:solidFill>
                <a:uFillTx/>
                <a:latin typeface="Arial"/>
                <a:ea typeface="바탕"/>
              </a:rPr>
              <a:t>	</a:t>
            </a:r>
            <a:r>
              <a:rPr b="1" lang="ro-RO" sz="1800" spc="-1" strike="noStrike" u="sng">
                <a:solidFill>
                  <a:srgbClr val="404040"/>
                </a:solidFill>
                <a:uFillTx/>
                <a:latin typeface="Arial"/>
                <a:ea typeface="바탕"/>
              </a:rPr>
              <a:t>(30 de puncte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1. 2 puncte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 pentru răspunsul: Moldova</a:t>
            </a: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 Se punctează orice mod de redactare a răspunsului corect (prin precizare/menționare sau în enunț)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2. 2 puncte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 pentru oricare dintre răspunsurile: </a:t>
            </a:r>
            <a:r>
              <a:rPr b="0" i="1" lang="ro-RO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Asaltul otoman, desfășurat în stilul nou al strategiei lui Mehmet al II-lea [...] a început în iunie 1462,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 armata otomană ajunge în capitala Țării Românești</a:t>
            </a: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 etc. Se punctează orice mod de redactare a răspunsului corect (prin citat din sursă/menționare sau în enunț)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3. câte 3 puncte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 pentru fiecare răspuns: Vlad Țepeș, Simion Movilă/Radu Șerban</a:t>
            </a: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 Se punctează orice mod de redactare a răspunsului corect (prin precizare/menționare sau în enunț).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(3px2=6p)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4. 3 puncte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 pentru scrierea literei </a:t>
            </a: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A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 txBox="1"/>
          <p:nvPr/>
        </p:nvSpPr>
        <p:spPr>
          <a:xfrm>
            <a:off x="611280" y="1196640"/>
            <a:ext cx="7921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algn="just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5. 7 puncte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 pentru scrierea oricărei relații cauză-efect stabilite între două informații selectate din sursa </a:t>
            </a: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B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, precizând rolul fiecăreia dintre aceste informaţii (</a:t>
            </a:r>
            <a:r>
              <a:rPr b="0" i="1" lang="ro-RO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cauză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, respectiv </a:t>
            </a:r>
            <a:r>
              <a:rPr b="0" i="1" lang="ro-RO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efect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35880" algn="just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Exemple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: cauză: </a:t>
            </a:r>
            <a:r>
              <a:rPr b="0" i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Experiența acumulată pe tronul Țării Românești i-a dovedit că stabilitatea domniei sale depindea de Poartă [Imperiul Otoman], nu de Viena, al cărei susținător era. 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și efect: </a:t>
            </a:r>
            <a:r>
              <a:rPr b="0" i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De aceea a întreprins demersuri diplomatice ca să obțină recunoașterea ca domn (decembrie 1604 - ianuarie 1605), finalizate cu succes. 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SAU</a:t>
            </a: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 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cauză: </a:t>
            </a:r>
            <a:r>
              <a:rPr b="0" i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Întrucât Gabriel Báthory [principele Transilvaniei] dorea aducerea Moldovei, a Țării Românești și a Transilvaniei sub conducerea sa</a:t>
            </a: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 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și efect: </a:t>
            </a:r>
            <a:r>
              <a:rPr b="0" i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Radu Șerban și-a reluat legăturile cu Habsburgii</a:t>
            </a:r>
            <a:r>
              <a:rPr b="1" i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 </a:t>
            </a: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etc.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35880" algn="just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6. câte 1 punct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 pentru menționarea oricăror două conflicte militare la care participă românii în secolul al XIV-lea – prima jumătate a secolului al XV-lea</a:t>
            </a: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(1px2=2p)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35880" algn="just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Exemple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: lupta de la Posada, bătălia de la Rovine, lupta de la Marienburg </a:t>
            </a: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etc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35880" algn="just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câte 2 puncte 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pentru prezentarea fiecărui conflict militar menționat - o scurtă expunere în care sunt precizate două informații referitoare la conflictul militar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	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	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	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	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	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	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	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	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	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	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	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	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	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	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	</a:t>
            </a: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(2px2=4p)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35880" algn="just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7. </a:t>
            </a: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4 puncte 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pentru menționarea oricărei asemănări între două acțiuni diplomatice la care participă românii în perioada cuprinsă între evenimentele descrise de sursa </a:t>
            </a: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A 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și cele descrise de sursa </a:t>
            </a: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B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35880" algn="just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Exemple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: au caracter antiotoman, reprezintă alianțe cu state creștine </a:t>
            </a: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etc. Se punctează orice mod de redactare a răspunsului corect (prin precizare/menționare sau în enunț)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35880">
              <a:lnSpc>
                <a:spcPct val="100000"/>
              </a:lnSpc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 txBox="1"/>
          <p:nvPr/>
        </p:nvSpPr>
        <p:spPr>
          <a:xfrm>
            <a:off x="1258920" y="333360"/>
            <a:ext cx="7275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 u="sng">
                <a:solidFill>
                  <a:srgbClr val="404040"/>
                </a:solidFill>
                <a:uFillTx/>
                <a:latin typeface="Arial"/>
                <a:ea typeface="바탕"/>
              </a:rPr>
              <a:t>SUBIECTUL al III – lea</a:t>
            </a:r>
            <a:r>
              <a:rPr b="1" lang="ro-RO" sz="1600" spc="-1" strike="noStrike" u="sng">
                <a:solidFill>
                  <a:srgbClr val="404040"/>
                </a:solidFill>
                <a:uFillTx/>
                <a:latin typeface="Arial"/>
                <a:ea typeface="바탕"/>
              </a:rPr>
              <a:t>	</a:t>
            </a:r>
            <a:r>
              <a:rPr b="1" lang="ro-RO" sz="1600" spc="-1" strike="noStrike" u="sng">
                <a:solidFill>
                  <a:srgbClr val="404040"/>
                </a:solidFill>
                <a:uFillTx/>
                <a:latin typeface="Arial"/>
                <a:ea typeface="바탕"/>
              </a:rPr>
              <a:t>(30 de puncte)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Informaţia istorică – 24 de puncte distribuite astfel: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4a66ac"/>
              </a:buClr>
              <a:buSzPct val="68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câte 3 puncte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 pentru menţionarea oricăror două fapte istorice desfășurate în România postbelică, în prima jumătate a secolului al XX-lea (</a:t>
            </a: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de exemplu:</a:t>
            </a:r>
            <a:r>
              <a:rPr b="0" i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 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desființarea partidelor istorice, înlăturarea monarhiei constituționale, desfășurarea naționalizării, începutul colectivizării </a:t>
            </a: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etc.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) 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	</a:t>
            </a: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(3px2=6p)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2 puncte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 pentru precizarea oricărei asemănări între acestea (</a:t>
            </a: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de exemplu:</a:t>
            </a:r>
            <a:r>
              <a:rPr b="0" i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 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au consecințe în domeniul politic, comuniștii preiau puterea în stat; desființează proprietatea privată, vizează domeniul economic </a:t>
            </a: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etc.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)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4a66ac"/>
              </a:buClr>
              <a:buSzPct val="68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2 puncte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 pentru menţionarea Constituției din 1965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	</a:t>
            </a: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3 puncte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 pentru prezentarea constituției menționate - o scurtă expunere 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	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în care sunt precizate două informații referitoare la constituție și se 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	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utilizează relația cauză-efect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1 punct pentru precizarea doar a unei informații referitoare la constituție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4a66ac"/>
              </a:buClr>
              <a:buSzPct val="68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câte 3 puncte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 pentru menţionarea oricăror două fapte istorice prin care România participă la relațiile internaționale în perioada „Războiului rece‟ (</a:t>
            </a: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de exemplu: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 stat fondator al Organizației Tratatului de la Varșovia, relații diplomatice cu state democratice, Conferința de la Helsinki </a:t>
            </a: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etc.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)</a:t>
            </a: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(3px2=6p)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4a66ac"/>
              </a:buClr>
              <a:buSzPct val="68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1 punct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 pentru formularea oricărui punct de vedere referitor la evoluția României, în plan intern, în ultimul deceniu al secolului al XX-lea (</a:t>
            </a: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de exemplu: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 În ultimul deceniu al secolului al XX-lea, practicile politice utilizate în plan intern favorizează evoluția României., Evoluția României în plan intern, în ultimul deceniu al secolului al XX-lea, este specifică unui regim democratic. </a:t>
            </a: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etc.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)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 txBox="1"/>
          <p:nvPr/>
        </p:nvSpPr>
        <p:spPr>
          <a:xfrm>
            <a:off x="899640" y="475920"/>
            <a:ext cx="763452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4 puncte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 pentru </a:t>
            </a:r>
            <a:r>
              <a:rPr b="1" lang="ro-RO" sz="1600" spc="-1" strike="noStrike" u="sng">
                <a:solidFill>
                  <a:srgbClr val="404040"/>
                </a:solidFill>
                <a:uFillTx/>
                <a:latin typeface="Arial"/>
                <a:ea typeface="바탕"/>
              </a:rPr>
              <a:t>susținerea punctului de vedere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 formulat printr-un argument istoric –</a:t>
            </a: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 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prezentarea oricărui fapt istoric relevant, prin precizarea a două informații referitoare la acest fapt și utilizarea conectorilor care exprimă cauzalitatea (</a:t>
            </a:r>
            <a:r>
              <a:rPr b="0" i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deoarece, pentru că 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etc</a:t>
            </a:r>
            <a:r>
              <a:rPr b="0" i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.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) şi concluzia (</a:t>
            </a:r>
            <a:r>
              <a:rPr b="0" i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așadar, astfel 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etc.)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Ordonarea şi exprimarea ideilor menţionate – 6 puncte distribuite astfel: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4a66ac"/>
              </a:buClr>
              <a:buSzPct val="68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2 puncte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 pentru </a:t>
            </a: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utilizarea limbajului istoric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 adecvat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	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1 punct pentru utilizarea parţială a limbajului istoric adecvat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4a66ac"/>
              </a:buClr>
              <a:buSzPct val="68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1 punct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 pentru </a:t>
            </a: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structurarea eseului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 (introducere - cuprins - concluzie)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4a66ac"/>
              </a:buClr>
              <a:buSzPct val="68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2 puncte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 pentru </a:t>
            </a: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respectarea succesiunii cronologice/logice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 a faptelor istorice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	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1 punct pentru respectarea parţială a succesiunii cronologice/logice a faptelor istorice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-   1 punct</a:t>
            </a:r>
            <a:r>
              <a:rPr b="0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 pentru </a:t>
            </a:r>
            <a:r>
              <a:rPr b="1" lang="ro-RO" sz="1600" spc="-1" strike="noStrike">
                <a:solidFill>
                  <a:srgbClr val="404040"/>
                </a:solidFill>
                <a:latin typeface="Arial"/>
                <a:ea typeface="바탕"/>
              </a:rPr>
              <a:t>respectarea limitei de spațiu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400" spc="-1" strike="noStrike">
                <a:solidFill>
                  <a:srgbClr val="0e58c4"/>
                </a:solidFill>
                <a:latin typeface="Arial"/>
                <a:ea typeface="바탕"/>
              </a:rPr>
              <a:t>SE PUNCTEAZĂ ORICE MODALITATE DE REZOLVARE </a:t>
            </a:r>
            <a:r>
              <a:rPr b="1" lang="ro-RO" sz="2400" spc="-1" strike="noStrike" u="sng">
                <a:solidFill>
                  <a:srgbClr val="0e58c4"/>
                </a:solidFill>
                <a:uFillTx/>
                <a:latin typeface="Arial"/>
                <a:ea typeface="바탕"/>
              </a:rPr>
              <a:t>CORECTĂ</a:t>
            </a:r>
            <a:r>
              <a:rPr b="1" lang="ro-RO" sz="2400" spc="-1" strike="noStrike">
                <a:solidFill>
                  <a:srgbClr val="0e58c4"/>
                </a:solidFill>
                <a:latin typeface="Arial"/>
                <a:ea typeface="바탕"/>
              </a:rPr>
              <a:t> A CERINŢELOR</a:t>
            </a:r>
            <a:r>
              <a:rPr b="1" lang="ro-RO" sz="1800" spc="-1" strike="noStrike">
                <a:solidFill>
                  <a:srgbClr val="404040"/>
                </a:solidFill>
                <a:latin typeface="Arial"/>
                <a:ea typeface="바탕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6:55:20Z</dcterms:created>
  <dc:creator>Rozalia Doicescu; CNPEE</dc:creator>
  <dc:description/>
  <dc:language>en-US</dc:language>
  <cp:lastModifiedBy>ROZALIA D.</cp:lastModifiedBy>
  <dcterms:modified xsi:type="dcterms:W3CDTF">2023-09-05T08:53:33Z</dcterms:modified>
  <cp:revision>315</cp:revision>
  <dc:subject/>
  <dc:title>Consfătuire 2021 ISTORIE</dc:title>
</cp:coreProperties>
</file>